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300168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80560" y="687240"/>
            <a:ext cx="507060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2c5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1800" y="4425840"/>
            <a:ext cx="5029200" cy="4197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49880"/>
            <a:ext cx="3002040" cy="459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03840" y="8849880"/>
            <a:ext cx="3001680" cy="459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C397928C-3916-46D4-968F-1A2C1D7E72B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3840" y="8850240"/>
            <a:ext cx="30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3FC7458B-AD65-40AD-A0DF-552672BB4DB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4160" y="689040"/>
            <a:ext cx="5065920" cy="3508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1800" y="4425840"/>
            <a:ext cx="5029200" cy="420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3840" y="8850240"/>
            <a:ext cx="30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79C14188-8B96-49D5-8360-16FF1044FE4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80920" y="687240"/>
            <a:ext cx="5070600" cy="3510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1800" y="4425840"/>
            <a:ext cx="502920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3840" y="8850240"/>
            <a:ext cx="30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B240CD3E-1087-4658-AFDE-847F1BBB616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80920" y="687240"/>
            <a:ext cx="5070600" cy="3510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1800" y="4425840"/>
            <a:ext cx="502920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7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70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72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70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72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163080"/>
            <a:ext cx="85345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47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70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37240" y="1598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970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37240" y="3947760"/>
            <a:ext cx="28951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163080"/>
            <a:ext cx="85345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947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598760"/>
            <a:ext cx="438768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7760"/>
            <a:ext cx="899172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e2e2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2c5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9258480" y="6673680"/>
            <a:ext cx="190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D624-5075-4507-9536-746874725300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5"/>
          <p:cNvSpPr/>
          <p:nvPr/>
        </p:nvSpPr>
        <p:spPr>
          <a:xfrm flipH="1">
            <a:off x="-360" y="990720"/>
            <a:ext cx="9906120" cy="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e2e2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2c5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177b5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satishp99@usa.net" TargetMode="External"/><Relationship Id="rId2" Type="http://schemas.openxmlformats.org/officeDocument/2006/relationships/hyperlink" Target="mailto:p.satish@nabard.org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17520" y="304920"/>
            <a:ext cx="8902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e54"/>
                </a:solidFill>
                <a:latin typeface="Arial"/>
              </a:rPr>
              <a:t>Microfinancing decentralized solar energy systems in India: Problems in upscaling and main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c1e54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c1e5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7c1e54"/>
                </a:solidFill>
                <a:latin typeface="Arial"/>
              </a:rPr>
              <a:t>Satish Pillariset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1e54"/>
                </a:solidFill>
                <a:latin typeface="Arial"/>
              </a:rPr>
              <a:t>Chief General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1e54"/>
                </a:solidFill>
                <a:latin typeface="Arial"/>
              </a:rPr>
              <a:t>National Bank for Agriculture and Rural Development (NAB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1e54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c1e54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30240" y="5257800"/>
            <a:ext cx="8690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International Conference on Micro Perspectives for Decentralized Energy Su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Technische Universitat Berli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27 February-1 March 2013,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5029200" y="380880"/>
            <a:ext cx="320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029200" y="38088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105520" y="5335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105520" y="457200"/>
            <a:ext cx="3124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2286000" y="533520"/>
            <a:ext cx="1523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600200" y="571500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5105520" y="457200"/>
            <a:ext cx="3124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cheme implementation in District A-3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of Aryavart Gramin Bank adop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cal youth identified by branch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ed by company/dealer to maintain the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d with a maintenance k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 pays a honorarium per month and small fee is also charged to the borr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F can handle 100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 satisfactory for borrower, banker and dea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s continuous operation of the syst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GO and KVK also roped in local grassroots organisations like Farmers Clubs and Self-Help Groups to popularise the schem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cheme implementation in District B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operated strictly as per guidelin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acilitating organisations eng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den of scheme implementation solely on bank branch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echanism for after-installation servicing and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lukewarm as responsibility was of the bank branch manager alone without any support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Units financed in 2011-12: 1011 in District A but only 22 in District B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Lacunae in the Scheme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design itself was fau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ponents of capital subsidy and soft loan made it cumbers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lsory refinance from NABARD dissuaded some banks which had surplus fun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e Bank of India not classifying it as Priority sector adv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ve banking system with a network of 120,000 outlets excluded from the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work prescribed was cumbers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Modifications in the Scheme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design was modified in 2012-13 to overcome some of the drawbacks obser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inance and soft loan parts were done away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idy fixed at 40 % of the unit co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rate charged would be as per the base rate fixed by each ba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BI classified these advances are Priority Sector adv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art of the paperwork was simplified with an easy subsidy flow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2c5f"/>
                </a:solidFill>
                <a:latin typeface="Arial"/>
              </a:rPr>
              <a:t>Lessons learnt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ng solar home lighting/heating systems is not like any other plain vanilla financing scheme of 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pronged involvement required from bank’s s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or top managements of banks to be convinced of the philosophy that solar energy is essential for a country like In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-private partnership is a must for grounding of this schem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 organisation necessary for convincing and sensitising people on the need for solar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ust hand-holding mechanism for after sales and installation  servicing and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Way Forward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21932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ve banking system yet to be brought into this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ing sector has to take more interest in this scheme and it has to be mainstreamed as a regular credit product of 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P mode for motivating and sensitising borrowers and a  mechanism for servicing and maintenance should be in built into the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organisations like SELCO Foundation, TERI etc. are working to popularise the scheme to take it to a take-off stage. In many areas they are working alongwith NABARD in pursuit of this go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2c5f"/>
                </a:solidFill>
                <a:latin typeface="Arial"/>
              </a:rPr>
              <a:t>Thank You</a:t>
            </a:r>
            <a:br>
              <a:rPr sz="4800"/>
            </a:br>
            <a:br>
              <a:rPr sz="4400"/>
            </a:br>
            <a:r>
              <a:rPr b="1" lang="en-US" sz="4400" spc="-1" strike="noStrike" u="sng">
                <a:solidFill>
                  <a:srgbClr val="5bad82"/>
                </a:solidFill>
                <a:uFillTx/>
                <a:latin typeface="Arial"/>
                <a:hlinkClick r:id="rId1"/>
              </a:rPr>
              <a:t>satishp99@usa.net</a:t>
            </a:r>
            <a:br>
              <a:rPr sz="4400"/>
            </a:br>
            <a:r>
              <a:rPr b="1" lang="en-US" sz="4400" spc="-1" strike="noStrike" u="sng">
                <a:solidFill>
                  <a:srgbClr val="5bad82"/>
                </a:solidFill>
                <a:uFillTx/>
                <a:latin typeface="Arial"/>
                <a:hlinkClick r:id="rId2"/>
              </a:rPr>
              <a:t>p.satish@nabard.org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8e2c5f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66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e2e2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2c5f"/>
                </a:solidFill>
                <a:latin typeface="Arial"/>
              </a:rPr>
              <a:t>The background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142640"/>
            <a:ext cx="8991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 to address problems of access to energy in In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waharlal Nehru National Solar Mission of the Government of In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,000 MW of solar power by 202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which 2,000 MW would be through off-grid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part through solar lighting and heating systems supported by bank fin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ral banks-pioneers in financing solar home lighting units: Aryavart Gramin Bank in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76440" y="2898720"/>
            <a:ext cx="495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8991720" y="152280"/>
            <a:ext cx="5331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e2e2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63080"/>
            <a:ext cx="853452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2c5f"/>
                </a:solidFill>
                <a:latin typeface="Arial"/>
              </a:rPr>
              <a:t>Launch of National Level Scheme 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142640"/>
            <a:ext cx="8991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uccess of the scheme in Aryavart Gramin Bank was a huge motiv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RD supported pilots with subsidy implemented by a number of Regional Rural Banks were also success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ng upon these positive outcomes, Government of India’s Ministry of New and Renewable Energy (MNRE) launched the sch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al guidelines were issued in May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76440" y="2898720"/>
            <a:ext cx="495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8991720" y="152280"/>
            <a:ext cx="5331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ubsidised Loan and Interest Scheme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520" y="121932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bj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177b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promote PV and solar thermal off-grid applications of solar ener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(e.g. Solar home lighting systems, thermal applications like water heaters, other power applications like irrigation pumpsets and other electricity/power applications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177b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courage replacement of non-renewable energy sources like fossil fuels, kerosene and diesel with solar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Features of the Scheme-1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administered by NABARD, funding by Ministry of New and Renewable Energy of Government of India through Indian Renewable Energy Development Ag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ing Banks - Commercial Banks/ Rural 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ver 9 pre-approved models of Solar Home Lighting Systems (10-200 Wp) and Flat Plat and Evacuated Tube Collector based Solar Water Hea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approved SHLS models of higher capacity to be added in due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Solar Applications like energisation of pumpsets to foll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% of the cost (subject to the boundary conditions) to be provided as capital subsidy and 50% as subsidised loan (5% interest p.a.), the balance(20%) being the margin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Features of the Scheme-2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ubsidy released to Banks by NABARD on loan being sanctio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 and subsidy amount together released to supplier by Bank on satisfactory instal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 repayment period: Maximum of 5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BARD refinances 100% of the loan with a repayment period of 5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rate on NABARD refinance for Banks-2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llateral for loans upto INR 100,000 ($ 2,0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s shortlisted after due dilig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 to produce 200 megawatts of off-grid solar power by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Progress of the Scheme ?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of the scheme was dismal in gene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11-12 all banks together financed only 45,034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regional rural bank (Aryavart) alone financed 30,000 units in 4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s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ound level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ckets of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in adjacent areas no take 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study taken up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cheme implementation in District A-1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2440" y="1143000"/>
            <a:ext cx="89913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ng banks had previous experience of financing solar home ligh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gional rural bank had financed under NABARD’s pilot subsidy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commercial bank was a sponsor bank of this RRB and its senior official had earlier experience with this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number of small borrowers needed convincing regarding utility of the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ssured handholding set up w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taff could not d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s entered into an agreement with a local NGO and Extension Centre of Agricultural University (KVK) to popularise the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853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8e2c5f"/>
                </a:solidFill>
                <a:latin typeface="Arial"/>
              </a:rPr>
              <a:t>Scheme implementation in District A-2</a:t>
            </a:r>
            <a:endParaRPr b="1" lang="en-US" sz="3200" spc="-1" strike="noStrike">
              <a:solidFill>
                <a:srgbClr val="8e2c5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520" y="1066680"/>
            <a:ext cx="89917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GO and KVK first conduct a (Gram Sabha) village assem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olar energy, scheme details and finance facilities explained in det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-visuals and demonstration kits us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list of volunteers to take up the scheme is drawn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e literature and  terms of bank loan and subsidy provided to short-li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 later short-listed ones taken to visit a functioning un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ng formalities are completed and unit instal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maintenance and servi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d through a system of Business Facilit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9067680" y="152280"/>
            <a:ext cx="5335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16:41Z</dcterms:created>
  <dc:creator/>
  <dc:description>A4 Blank templ v1.pot</dc:description>
  <dc:language>en-US</dc:language>
  <cp:lastModifiedBy/>
  <dcterms:modified xsi:type="dcterms:W3CDTF">2013-02-17T15:29:40Z</dcterms:modified>
  <cp:revision>519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CG 2007 Template">
    <vt:bool>1</vt:bool>
  </property>
  <property fmtid="{D5CDD505-2E9C-101B-9397-08002B2CF9AE}" pid="3" name="Reference">
    <vt:lpwstr>BCGTemplateNew</vt:lpwstr>
  </property>
  <property fmtid="{D5CDD505-2E9C-101B-9397-08002B2CF9AE}" pid="4" name="Version">
    <vt:lpwstr>20041127</vt:lpwstr>
  </property>
</Properties>
</file>